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BA7-50CA-4D4C-905C-D70033B8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19D-9B82-4B31-8E37-EC5B0154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C68-D254-4E32-81BC-98EC8EF7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D47-C936-4D5A-AEFE-79B2D05F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3EC-9C42-4CF4-B606-06F92C9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7FB-82AA-4295-B09E-5BAE5F4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B5A-DC22-48CE-A6FA-826AD786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C49-498E-4C4A-BB47-BBD6DEE8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B41-15FF-43EE-8402-BCFA9845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FDB-0C1D-4858-97D9-C74D8C3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192-652D-4D63-98EA-63F980D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01B-28CF-48C2-8DEB-6382943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6010-A4E8-46BE-80F7-9E37A78C0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3240" y="419112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21 et 22 (enveloppes 1 e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5760" y="172080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Charles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2133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560" y="8839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38 (envelopp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64008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Alexandre FERGU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6080" y="6858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5800" y="76201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5400" y="419112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18 (enveloppe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5400" y="172080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lle Anne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1337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920" y="88390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9 (enveloppe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8040" y="640080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lle Sophie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2400" y="6858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21:40Z</dcterms:created>
  <dc:creator>HP, client autorisé</dc:creator>
  <dc:description/>
  <dc:language>en-US</dc:language>
  <cp:lastModifiedBy>Phil</cp:lastModifiedBy>
  <dcterms:modified xsi:type="dcterms:W3CDTF">2007-03-24T12:33:52Z</dcterms:modified>
  <cp:revision>14</cp:revision>
  <dc:subject/>
  <dc:title>Présentation PowerPoint</dc:title>
</cp:coreProperties>
</file>